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B32E-6CA4-4B8D-896C-7F30A0A83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5405-FD37-4A00-A56F-9FD400544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3B75-33BC-4872-96BA-2444602EB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D222-B0A0-4B73-9A87-ABC67EAAA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DCFF2-0ABF-4A9D-8E1E-639F741F05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336E5-FD6F-4631-B8FD-985D97AF49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B624B-FC24-401E-B044-13E8EFC2C8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9587D-1025-4095-9752-E6052E0EC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C2556-2DC7-4885-8621-EBB56429F7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9EB5-196B-4081-9611-4D8C248280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CEFF4-1220-4075-BF90-87D23AFFA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3B93-8F68-4EAF-ABE6-1AA5DC042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A2B81-9F63-493A-82F5-C124FFBCB5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03170-B791-48CC-AEB4-AF415EB673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C2254-6372-44D5-9125-4A4DF36D4B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4FAB7-C259-4F45-85AB-C8910AA7C4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B20B5-8C2D-47D2-88B9-CD47F98B2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2B89-3FBC-4BC6-A0D4-D53B803EB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7186-090E-48B9-930C-07D656CA3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9609-E89C-4FFA-9789-9294EF123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46DC-F2BC-452B-8791-9C39E579A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7B61-3519-4AB1-A77A-38B2A1560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30E9-1AE6-4574-B88F-3475155C9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65F5-6C00-4B16-9941-2D39BA21C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B116EDC-B3B2-49EC-9777-8BB3F4456CF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58FC810-F108-4F2B-9DB1-931AE8EDB0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4CE3D8A-682B-4DBD-9595-C47699F808C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A204475-B345-4DAB-A7D5-F5ABF6A710F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4-10-10T08:39:30Z</dcterms:modified>
  <cp:revision>308</cp:revision>
  <dc:subject/>
  <dc:title>REGRESSION ANALYSIS</dc:title>
</cp:coreProperties>
</file>